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D30-AB33-4241-8D16-D8E0D419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613-3760-4D3A-8797-C54E99C3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38F-9FF5-4A08-AF55-7C106621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173-33A0-4211-BF5D-09FF6363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4058-F9DB-432B-B0EC-30F65A35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54BA-D981-43A0-BC5F-1C598EDC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6547-DCA4-4072-A7BE-A79428B4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0E8F-CBF3-41D3-88D6-DDCBB729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C6F4-005C-4DC1-8296-BA012484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FA2F-6D54-470E-A716-51EEDB91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6834-7D85-4D8B-9FF3-BAB4D16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DC3-4C8B-4281-9F69-CF2280B5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CDE9-91C5-48C4-9F4D-8C4A2CA4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A621-E93E-45F1-90D7-AB41F584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5835-D6CC-4AEF-893E-ED24E806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1C25-6C49-44E3-94DC-D99B3398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1C24-AD7F-4165-B6EF-E3A7159D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FC94-3CA3-4E85-9468-14EFD0B9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DA90-57D7-45BC-A299-FD8FD4EC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3A84-DD0B-42D1-AD55-D7FF489E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4D0E-CEF2-441D-9005-A4B47547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2A24-77A2-4B3C-9288-73E0F1DB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4DB-B0DD-46FE-9A73-4FFA504D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7E11-016D-4DD8-802E-9C2A814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9597-44D0-44E8-BC01-81C71120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E934F-9B26-4E88-A337-681368D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E323-B17F-4B1B-BBA6-91E881DC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2256-53D8-48A3-96F6-59EE347D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BC5A-DFE4-48FA-849E-AC8ACE9C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E321-51B3-4A2C-916D-89D0541F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F83-15B6-4252-8049-14212F76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E09-CEC2-4C3F-97F0-3EB34876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E68-07B5-4639-98DC-F647F19E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DFB-A831-48E1-AEEF-8004BE2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EE8-0552-4EB0-8127-53E4188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C23-3A51-4535-9A12-399A042C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78C-C293-4CB2-BC0C-7776C2AF7EB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15DB-EEF4-46ED-BD10-E606AB64FAF6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F99B-A480-4288-8355-B460B17DC81E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9E5-5D82-4FF8-A598-AF3118F45920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ZoneTexte 6"/>
          <p:cNvSpPr/>
          <p:nvPr/>
        </p:nvSpPr>
        <p:spPr>
          <a:xfrm>
            <a:off x="893880" y="2490840"/>
            <a:ext cx="711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of food security challenges and transitional situa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legation of the EU (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fghanistan 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808080"/>
                </a:solidFill>
                <a:latin typeface="Arial"/>
              </a:rPr>
              <a:t>Wali FARHODI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42720" y="2530080"/>
            <a:ext cx="83754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Training of livestock owners and shopkeepers about animal nutrition and stable Improve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Setting up demonstration plots for introduction of improved potato variet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Provision of improved potato seeds and training farmer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Piloting of small-scale potato storage facilit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Support water management committee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Training women to use spinning wheel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Community awareness-raising and collective plann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Pasture regener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Demonstrating and providing Passive-Solar Houses (PSH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1822320"/>
            <a:ext cx="77868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LRRD interventions/activities in field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1662120"/>
            <a:ext cx="778644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1f1d"/>
                </a:solidFill>
                <a:latin typeface="Verdana"/>
              </a:rPr>
              <a:t>Overall difficultie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7520" y="2269800"/>
            <a:ext cx="8278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Political instability and insecurity </a:t>
            </a:r>
            <a:r>
              <a:rPr b="0" lang="en-GB" sz="1400" spc="-1" strike="noStrike">
                <a:solidFill>
                  <a:srgbClr val="103c72"/>
                </a:solidFill>
                <a:latin typeface="Verdana"/>
              </a:rPr>
              <a:t>(suspension of activities)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ifficult to monitoring and field visi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Decision making process at the EU take a bit longer tim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ing  under staff 30%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Recruitment take too long and leaving is so quickly! </a:t>
            </a:r>
            <a:r>
              <a:rPr b="0" lang="en-GB" sz="2000" spc="-1" strike="noStrike">
                <a:solidFill>
                  <a:srgbClr val="103c72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Mission request for field visits will be approved only if B6 vehicles are available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6266-04CD-4784-BF1D-4A4107F2FB6E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90680" y="2443320"/>
            <a:ext cx="778644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aa1f1d"/>
                </a:solidFill>
                <a:latin typeface="Verdana"/>
              </a:rPr>
              <a:t>Kob jai!</a:t>
            </a:r>
            <a:br>
              <a:rPr sz="10600"/>
            </a:br>
            <a:r>
              <a:rPr b="1" lang="en-US" sz="10600" spc="-1" strike="noStrike">
                <a:solidFill>
                  <a:srgbClr val="aa1f1d"/>
                </a:solidFill>
                <a:latin typeface="Wingdings"/>
                <a:ea typeface="Wingdings"/>
              </a:rPr>
              <a:t></a:t>
            </a:r>
            <a:endParaRPr b="0" lang="en-US" sz="10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4435-4AFC-49B7-ACF3-2B7D4D59A9D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ZoneTexte 2"/>
          <p:cNvSpPr/>
          <p:nvPr/>
        </p:nvSpPr>
        <p:spPr>
          <a:xfrm>
            <a:off x="1511280" y="2514600"/>
            <a:ext cx="61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698400" y="1587600"/>
            <a:ext cx="7365960" cy="4838760"/>
            <a:chOff x="698400" y="1587600"/>
            <a:chExt cx="7365960" cy="4838760"/>
          </a:xfrm>
        </p:grpSpPr>
        <p:pic>
          <p:nvPicPr>
            <p:cNvPr id="167" name="Picture 6" descr="Afghan_topo_map_2"/>
            <p:cNvPicPr/>
            <p:nvPr/>
          </p:nvPicPr>
          <p:blipFill>
            <a:blip r:embed="rId1"/>
            <a:stretch/>
          </p:blipFill>
          <p:spPr>
            <a:xfrm>
              <a:off x="698400" y="1587600"/>
              <a:ext cx="7365960" cy="4838760"/>
            </a:xfrm>
            <a:prstGeom prst="rect">
              <a:avLst/>
            </a:prstGeom>
            <a:ln w="50760">
              <a:solidFill>
                <a:srgbClr val="333333"/>
              </a:solidFill>
              <a:miter/>
            </a:ln>
          </p:spPr>
        </p:pic>
        <p:sp>
          <p:nvSpPr>
            <p:cNvPr id="168" name="Text Box 7"/>
            <p:cNvSpPr/>
            <p:nvPr/>
          </p:nvSpPr>
          <p:spPr>
            <a:xfrm>
              <a:off x="813960" y="1624320"/>
              <a:ext cx="1339200" cy="5353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AFGHANISTAN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Elevation Map</a:t>
              </a:r>
              <a:endParaRPr b="0" lang="en-US" sz="11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25160" y="2530440"/>
            <a:ext cx="81183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ghanistan is a landlocked and drought-ridden country, ranks 181*  out of 182 on the human development 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2007/8 National Risk and Vulnerability Assessment Report found that approximately 61% of the population in Afghanistan has experienced low dietary diversity and very poor food consumption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GB" sz="1400" spc="-1" strike="noStrike">
                <a:solidFill>
                  <a:srgbClr val="808080"/>
                </a:solidFill>
                <a:latin typeface="Verdana"/>
              </a:rPr>
              <a:t>Human Development Report </a:t>
            </a:r>
            <a:r>
              <a:rPr b="1" lang="en-GB" sz="1400" spc="-1" strike="noStrike">
                <a:solidFill>
                  <a:srgbClr val="808080"/>
                </a:solidFill>
                <a:latin typeface="Verdana"/>
              </a:rPr>
              <a:t>2009 </a:t>
            </a:r>
            <a:r>
              <a:rPr b="0" lang="en-GB" sz="1400" spc="-1" strike="noStrike">
                <a:solidFill>
                  <a:srgbClr val="808080"/>
                </a:solidFill>
                <a:latin typeface="Verdana"/>
              </a:rPr>
              <a:t>Human Development Index</a:t>
            </a:r>
            <a:r>
              <a:rPr b="1" lang="en-GB" sz="1400" spc="-1" strike="noStrike">
                <a:solidFill>
                  <a:srgbClr val="808080"/>
                </a:solidFill>
                <a:latin typeface="Verdana"/>
              </a:rPr>
              <a:t> (HDI)</a:t>
            </a:r>
            <a:r>
              <a:rPr b="0" lang="en-GB" sz="1400" spc="-1" strike="noStrike">
                <a:solidFill>
                  <a:srgbClr val="808080"/>
                </a:solidFill>
                <a:latin typeface="Verdana"/>
              </a:rPr>
              <a:t> UNDP</a:t>
            </a: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77880" y="1645920"/>
            <a:ext cx="7786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Overview of Food Security…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47760" y="254952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proximately 7 million Afghans - roughly 28% of the population, do not meet their minimum food requirements and are food insecure to some degree. 20% of the population suffer from chronic food insecurity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ghanistan has one of the highest maternal mortality rates in the worlds, as high as 1,800 deaths per 100,000 live birth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77880" y="1645920"/>
            <a:ext cx="7786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Overview of Food Security…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3840" y="232884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decades of conflic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rastructure destruc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lee of human capital and expertis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ihood assets undermined at all level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usehold focus on coping with insecurity and other hazar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al instability, (poor institutional development, continuous transitional governments.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ather/increase climatic instability/chronic drough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77880" y="1645920"/>
            <a:ext cx="77868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Root causes of the transition situation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45960" y="23889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ufficient production of wheat and cerea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ufficient wheat se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ufficient ground and surface water resources for agricultur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urrent droughts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d amount of arable land*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or regional cooperation/lack of access to international/regional Marke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transportation and storage costs associated with global crop expor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77880" y="1646280"/>
            <a:ext cx="7786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Root causes…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88880" y="1692360"/>
            <a:ext cx="77868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Main short and medium term need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14280" y="24368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pid appraisal uni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gricultural planning/marketing analysis uni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ic institutions to train the local capac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/enhancing viable national innovation system (research knowledge and extension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capacity for policy and analysi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igate/reduced poverty and hunger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/establishment of good social protec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1617480"/>
            <a:ext cx="7786440" cy="38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LRRD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2008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LRRD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2009</a:t>
            </a:r>
            <a:br>
              <a:rPr sz="4000"/>
            </a:br>
            <a:r>
              <a:rPr b="1" lang="en-US" sz="4000" spc="-1" strike="noStrike">
                <a:solidFill>
                  <a:srgbClr val="aa1f1d"/>
                </a:solidFill>
                <a:latin typeface="Verdana"/>
              </a:rPr>
              <a:t>LRRD</a:t>
            </a:r>
            <a:r>
              <a:rPr b="1" lang="en-US" sz="4000" spc="-1" strike="noStrike">
                <a:solidFill>
                  <a:srgbClr val="aa1f1d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aa1f1d"/>
                </a:solidFill>
                <a:latin typeface="Verdana"/>
              </a:rPr>
              <a:t>2010</a:t>
            </a:r>
            <a:endParaRPr b="1" lang="en-US" sz="40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64600" y="2352600"/>
            <a:ext cx="814716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ivelihoods Diversifica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Rural Enterprise Develop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nstitution Building (Sustainability beyond the project life cycle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Water develop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Improvement of dryland agriculture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Livestock and fodder manage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Verdana"/>
                <a:ea typeface="ＭＳ Ｐゴシック"/>
              </a:rPr>
              <a:t>Environmental protection, soil and water conservation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1625400"/>
            <a:ext cx="7786800" cy="44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1f1d"/>
                </a:solidFill>
                <a:latin typeface="Verdana"/>
              </a:rPr>
              <a:t>LRRD </a:t>
            </a: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interventions/activities in field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9T09:22:55Z</dcterms:modified>
  <cp:revision>856</cp:revision>
  <dc:subject/>
  <dc:title>No Slide Title</dc:title>
</cp:coreProperties>
</file>